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gif" ContentType="image/gif"/>
  <Override PartName="/ppt/media/image6.gif" ContentType="image/gif"/>
  <Override PartName="/ppt/media/image13.wmf" ContentType="image/x-wmf"/>
  <Override PartName="/ppt/media/image25.gif" ContentType="image/gif"/>
  <Override PartName="/ppt/media/image10.gif" ContentType="image/gif"/>
  <Override PartName="/ppt/media/image26.gif" ContentType="image/gif"/>
  <Override PartName="/ppt/media/image14.gif" ContentType="image/gif"/>
  <Override PartName="/ppt/media/image24.wmf" ContentType="image/x-wmf"/>
  <Override PartName="/ppt/media/image21.gif" ContentType="image/gif"/>
  <Override PartName="/ppt/media/image12.wmf" ContentType="image/x-wmf"/>
  <Override PartName="/ppt/media/image23.wmf" ContentType="image/x-wmf"/>
  <Override PartName="/ppt/media/image17.gif" ContentType="image/gif"/>
  <Override PartName="/ppt/media/image2.jpeg" ContentType="image/jpeg"/>
  <Override PartName="/ppt/media/image3.wmf" ContentType="image/x-wmf"/>
  <Override PartName="/ppt/media/image4.gif" ContentType="image/gif"/>
  <Override PartName="/ppt/media/image15.wmf" ContentType="image/x-wmf"/>
  <Override PartName="/ppt/media/image1.jpeg" ContentType="image/jpeg"/>
  <Override PartName="/ppt/media/image5.gif" ContentType="image/gif"/>
  <Override PartName="/ppt/media/image1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36B-1E89-4027-8185-D24562B3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122A-4E8F-476E-AA30-C3CDF47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FB862-D87B-4831-8589-30FCB455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FFD77-2B92-4DE1-9E0D-6F9E0B7E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DB64C-0227-4DB5-BB8D-94B92EAD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CE1FD-9A01-4169-BA5F-C00F8977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393D-5FC4-46F2-8E20-99E21057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1E6F-A08B-4B6E-9B5D-71ECE3B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284F1-13E5-432F-A989-C10C58BF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EE88-FD05-4B04-A2D5-F101837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B6CB7-7807-44B9-BCCC-B7DA6194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97C38-6A32-4CCD-BEE4-9F521BB0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D0D-B5A4-480F-94D9-1DD4FEF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0288F-E729-4052-98AD-8BDC25AB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F4EA3-E76F-4D57-96EB-00ECF68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86153-320D-4446-8E50-6C6FF7A1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834E3-A9A9-4F6F-B37B-F87C7FD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E4E9E-1E41-4B47-AC5B-2085B188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72033-D386-4279-BE8C-86DBBE2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2E8F5-9EF8-49F2-8DA1-F41A780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696EF-5155-4ACD-98D0-B1EEC8DB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1AE25-50D0-4F79-BBB1-21CEF475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EA1EE-80B9-405B-AFED-36749E35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A3C-F22C-4D1A-B3B6-E2988C47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EFD7E-1852-4231-8174-B152D173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E8DD-C3C9-40A6-89CA-C76C4A87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1ED3-E7CC-4B77-A773-2877F508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839-4D1D-48BE-96A1-A8109A1F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5EF9-0702-40F3-9AD2-CB27B251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2BF3-3CA0-4227-AB2D-86B24498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373B-D426-483E-AAD2-47A42F40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B673-29D9-4A6E-9A23-AA4F311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B7C-8870-44DC-98A7-A7F8416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FFED-7199-4F4B-9446-6CE810A0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6D13-9EFD-41AF-B8D4-46E41EA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3D97-0CA1-4048-9A85-19E7E3B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E0C7-E7BF-4A25-99BE-15ADE6F9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5B55-742D-4DBF-A808-9CFAE0C4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73C46-2BD5-41BA-BBDC-F2EFD317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8E9B-882A-44D7-BDA0-6525B58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AB2D-FA9B-4250-AB23-B058105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1C645-1D63-4654-A216-0C2D8F36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F73D-AE80-4056-A5E5-CB1B78C7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1C1-57C9-48BE-B64C-4B75A6D9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35DC-7748-4091-AAE6-D9188E95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BDEC-001E-46F5-8BD0-9324DC3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4A97E-49B8-4150-B8D1-8E3C3D17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EB7F-7924-46B3-BC12-BF974840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9925-5D1E-48E6-B2C7-5C4B34B7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5FCEB-CAA3-4131-9070-234BB34A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0456-1614-4874-BFB9-41E3AB2B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0B91-B5AB-4976-B98E-8427053A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6E8D-5F3F-4C75-90ED-76A761CA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7CDB8-E5E6-45E2-9E21-1778FD33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D14-99DE-424A-9BE5-2C1DED1B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5D8D-DA21-4048-AE06-6E99B48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EAEF1-EFF3-4932-BA02-78E69229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2AD17-6C7E-4EC5-B45D-7201F83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397B-9376-41C2-BBF0-F6890776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318A1-34B7-4520-8044-4E5934E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0801-4C81-457C-A946-B15A2AA5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2D857-057D-4677-8526-ED1C0CF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B1178-6431-4327-9251-50F0E542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30622-7A0B-49E5-B3B8-08C1F062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A59A-3256-4E8B-B355-5AF66CFA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C1D-D4A0-4D7E-887B-BD294491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6CAC5-63E6-496C-BA46-8E9E257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ADCC3-6857-410F-A068-B96BD5C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7A9E0-9A5E-4083-B003-A55E84A8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CE262-C6A1-48A3-8367-DBB64211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74F2-18FB-446A-8240-30700F2E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727D4-4378-4B6D-A3AE-F9EF4D8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BDC1-4ED8-4EF3-84FD-CE93848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3E3F0-3B47-4A13-8BE5-4541935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FEA62-72B5-40C3-985D-5AC98E1C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2AC9-497F-4AA5-9711-236829F8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117-511E-470B-A455-47E1AC8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AC97-A0B0-48F3-8AF8-276AF6A7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2609-8C79-445E-8A28-E37446EF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EAA8-F294-4464-82EC-0EC9C92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95B2-15CC-43F1-8086-21EE406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2D5B8-50FC-433D-B473-70390EC6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F3FAE-E0AD-4DE5-85AF-A462BFC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0A07-2692-4EC2-986A-F8F8B9F3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7AD8-0712-4241-AF27-CC0EFE16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8E421-DC39-44EC-B7F0-363423EE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5FB9D-3094-4E2E-9981-6119EED0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D9F-0060-4DD4-B393-C55AF6B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41B51-A2BC-495C-B4F5-93A876B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77A9-9C58-42E5-9BE1-AEA713AB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6772-E277-4D53-8F19-9C9AEA84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67444-A172-41CB-ADC2-F9607336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F49FF-CEAC-48E4-9FD5-85EA1963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A8A64-94F0-47E3-8CC9-50A26737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48B07-794B-47CC-B063-F9090B19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6712-CA1F-49EE-BEAA-CBF5A9AD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6E607-604A-4B74-89A8-49766F11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5AB3-043B-4C8C-9171-9DA2F26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6F3-D7CC-457E-A989-B8571E2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3922-38D7-42FC-B04B-F80E4087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769B8-EC23-47CB-805F-43CEF78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1FE3-746C-4112-8D6D-C6DD728F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E587-3242-4EA1-A864-7FBFEA9D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150A0-9509-48A1-AA51-9FB93AAE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6F24-920B-4AFB-A141-DC38064A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3CF8C-A49A-4CD7-9C67-DE3B951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74E79-29E4-4BB9-9AA2-4F114CCE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4CC3F-ED25-4A7E-9E8F-67C3EE2C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113E8-2426-446F-B979-8607196D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B711-4F44-4F35-92B8-F139D09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3A6D3-8B1F-4BB0-B526-11A48FE0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88D13-D9C7-4E22-9540-D5485C38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569C-6678-4B63-B0D0-0A76F6AE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9184-17D0-4ACE-A995-E07D5E0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A4DE-68AD-4550-88FF-B4EE2D65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BB31-A576-4254-9CF5-CD537F43A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A2D6-5BA5-44FE-8EB8-AB1B7AED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97EA5-3DBD-4776-AFF6-06AD6B48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73747-F643-4927-87D2-316BA351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88CDE-E06B-4A06-BE45-89425113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585C-3BAD-4325-BF93-93BB2ECFD2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dt" idx="2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A0FF-9258-40F4-9297-7BB358ADC8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2941-EC42-455E-9AC3-D3A219B929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0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81B-8210-40A5-BA98-4D07B25F8C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4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E85C-31EB-4455-BB06-7064C50BBF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9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107D-656F-4D7F-8AE2-24AE24FC88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0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351D-2ECA-4FDA-AFCA-A5D466D171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0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A9F-C019-4510-83BC-2EE401584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5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6EE-B4FC-4AEC-A9D1-197EB3B6F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0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5F75-B7F3-405C-8BF5-AB90B63AD8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Microsoft YaHei"/>
              </a:rPr>
              <a:t>«Каша-пища наша»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3594240" y="4011480"/>
            <a:ext cx="1955520" cy="150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юбите ли вы каши? Почему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зная                               нет, не вк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4105080" cy="26924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26636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6948360" y="558972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Едите ли вы кашу в школе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                                                     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250920" y="2297160"/>
            <a:ext cx="3600360" cy="26416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16560" cy="26636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851280" y="2997360"/>
            <a:ext cx="1117440" cy="11174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Какую из этих каш вы бы предпочли кушать в школьной столовой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Гречневую                                  манну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исовую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225600" cy="2450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5816520" y="2133720"/>
            <a:ext cx="3327480" cy="24508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3132000" y="4406760"/>
            <a:ext cx="3098880" cy="245124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6877080" y="4797360"/>
            <a:ext cx="158436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Times New Roman"/>
              </a:rPr>
              <a:t>Как вы думаете, чем полезны каши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6662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ного полезных          много витами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ет эн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108000" y="2637000"/>
            <a:ext cx="3225600" cy="24508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3200400" cy="2450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3276720" y="4406760"/>
            <a:ext cx="3098520" cy="245124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6659640" y="4659480"/>
            <a:ext cx="2284200" cy="1452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словицы и поговорки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 брюху, что глаза кашу вид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шу есть – зубов не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блины, там и мы, где с маслом каша, там и место на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леб да крупы на здоровье луп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 каши и обед не об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од кости гложи, стар – кашу 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ь наша – гречневая каша: не перцу чета, не прорвет жив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рое кушанье толокно: замеси, да и в рот пол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шевар живет сытее кня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7451640" y="52293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глянем в словари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Ожегов С.И.: </a:t>
            </a:r>
            <a:r>
              <a:rPr b="0" i="1" lang="en-US" sz="3600" spc="-1" strike="noStrike">
                <a:solidFill>
                  <a:srgbClr val="3333cc"/>
                </a:solidFill>
                <a:latin typeface="Microsoft YaHei"/>
              </a:rPr>
              <a:t>«Каша – кушанье из вареной крупы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аль В.И. : </a:t>
            </a:r>
            <a:r>
              <a:rPr b="0" i="1" lang="en-US" sz="3600" spc="-1" strike="noStrike">
                <a:solidFill>
                  <a:srgbClr val="3333cc"/>
                </a:solidFill>
                <a:latin typeface="Microsoft YaHei"/>
              </a:rPr>
              <a:t>«Каша - густоватая пища, крупа, варенная на воде или молоке»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655640" cy="2001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Если хочешь быть здоров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аждая крупа выводит из организма определенный вид шла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ного кислот, углеводов, витаминов, микроэлементов калия, кальция, магния, фтора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огата клетчаткой, регулирует пищеварение и улучшает состояние сосудов, помогает поддерживать работу сердца в хорошей фор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ормализуют обмен веществ, что отвечает за наш ве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Люди, регулярно кушающие утром кашу, не так сильно подвержены депрессии, да и находятся в лучшей физической форме, чем те, кто кашу не ес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 мнению американских диетологов, они реже испытывают чувство раздражительност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7451640" y="5373720"/>
            <a:ext cx="1047960" cy="10476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Из чего-же, из чего-же, из чего-же, сделаны все наши каши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Углеводов – 65-85%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Белков – 6-15%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Жиров – 0,9-3%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Витамины группы 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093080" y="4292640"/>
            <a:ext cx="1222200" cy="2008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наете ли Вы, что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шеница – манная, пшеничная, «Полтавская», «Артек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со – пшенная круп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Ячмень – перловая и ячневая круп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речиха –гречка-ядрица, «Продел», «Смоленска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вес – овсяная, толокно, «Геркулес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ис - рисовая круп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укуруза – кукурузная круп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260720" cy="1513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речневая круп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локалорий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восходит большинство круп по содержанию бел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итамина В1 в ней больше, чем в манной крупе в 10 (!) раз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глеводов в ней меньше чем в других крупах, поэтому не дает прибавки в вес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236000" y="907920"/>
            <a:ext cx="996840" cy="138456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анная крупа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чень калорийна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рекомендуется больным сахарным диабетом и людям с      избыточным вес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6227640" y="4076640"/>
            <a:ext cx="1914480" cy="24955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аг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Готовится из картофельного или кукурузного крахм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гато углевода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езно при снижении веса и тем, кому рекомендуется ограничивать употребление  белк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6948360" y="4724280"/>
            <a:ext cx="180972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циологический опрос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нимали участие учащиеся 2 «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«б», 4 «а» кла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анкетирования отражены в полученных диаграм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300720" y="3803760"/>
            <a:ext cx="1943280" cy="1689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7:43:28Z</dcterms:created>
  <dc:creator>Наталья</dc:creator>
  <dc:description/>
  <dc:language>en-US</dc:language>
  <cp:lastModifiedBy>Наталья</cp:lastModifiedBy>
  <dcterms:modified xsi:type="dcterms:W3CDTF">2009-05-14T14:27:45Z</dcterms:modified>
  <cp:revision>9</cp:revision>
  <dc:subject/>
  <dc:title>«Каша-пища наша».</dc:title>
</cp:coreProperties>
</file>